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F05-B026-4B1D-977F-A4099900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09F-B07B-4163-8047-176948B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0C0-05D4-40F7-9822-2A1B7B1D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AA0-1CC7-46E5-870A-5C033C58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01B-C377-4CDD-9D35-F20D75D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187-8C03-4D8B-AB0D-E0CAA63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555-2BEB-4255-9CDA-2A4F69FE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B9C-E311-4AAF-A695-810AA1A3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640-9043-403B-BA81-F8029FF5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095-5F4C-4EFF-88D9-44117A0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20A-066F-49AF-992E-5B378F5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CC0-A4AA-48DF-A229-C941E89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430-B2A0-4A9C-82E2-30114294B3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7920"/>
            <a:ext cx="4500720" cy="95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مريم كفّي البكاء، ألـمسيح حقاً قام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77920"/>
            <a:ext cx="4500720" cy="1269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إنَّ المسيح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قد قام فافرحوا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يا مؤمنون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15636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َسوعُ يَا مَن قُمْتَ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بَيْنَ الأَمْوَات هَبْنَا الفَرَحَ وَالسَّلامْ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07:52Z</dcterms:created>
  <dc:creator>Charbel Azar</dc:creator>
  <dc:description/>
  <dc:language>en-US</dc:language>
  <cp:lastModifiedBy>-</cp:lastModifiedBy>
  <dcterms:modified xsi:type="dcterms:W3CDTF">2003-04-19T12:16:16Z</dcterms:modified>
  <cp:revision>6</cp:revision>
  <dc:subject/>
  <dc:title>Slide 1</dc:title>
</cp:coreProperties>
</file>